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CB5-BA22-427C-AFA1-04CC426C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EB3-41C5-4EB8-BC29-B946971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38A-F17F-415C-8FCD-45696ED3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2BD-1856-46AB-BCB8-B03CCCBF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8C5-BB86-433A-96D5-B5DDA5C5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757-4FB5-40DA-ACFB-5FD1C15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D1B-3AC6-4D54-990C-7DBF2ADA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69F-8C53-410D-A95E-FFDC70F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A24-F31B-401F-9348-75D8504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AB5-9B51-4D9F-96A0-88F4730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F17-4F30-4C8B-9491-F749F790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6FF-8919-4AC9-B74C-338641A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8F9-99B3-4F7D-8A66-37D0F1E0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9:00Z</dcterms:created>
  <dc:creator>Patrick J. Mooney</dc:creator>
  <dc:description/>
  <dc:language>en-US</dc:language>
  <cp:lastModifiedBy>Patrick J. Mooney</cp:lastModifiedBy>
  <dcterms:modified xsi:type="dcterms:W3CDTF">2011-12-01T02:40:10Z</dcterms:modified>
  <cp:revision>1</cp:revision>
  <dc:subject/>
  <dc:title>Slide 1</dc:title>
</cp:coreProperties>
</file>